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4B69-EC04-4A49-B1E9-C06618B3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68BA-5CFE-49F2-ABBA-B26815380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Why using 25 as a factor? Because she is overweight (BMI=25) before a pregna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is is only an estimation. Individualisation is necessa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3AD-AB90-49B2-900B-17D75054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14 exch – distribute evenly t/out the day depending on the glucose control, current treatment and patient’s condi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BF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unch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inner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acks – 1-2 once a day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9C8-2CBD-4363-96D6-E989E776F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DB3-7222-48CC-BCA6-2DB80534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FD2-A575-49F6-B019-F1DC1D5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0FD-3392-4D73-80CA-1B6ED258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2EE-79BF-419B-9CB1-74838061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6BBD-F3D9-4964-B81B-C1A98F57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E1DD-5142-4F50-9BCD-1A911BA5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2016-7E2C-41C1-986A-E07D85E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365-054D-488E-8BF1-D9E48C0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11AF-F49B-4428-B7C3-F65B6EE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AA7B-D642-48B1-A404-193F7DD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B8E-09C9-4E3A-A5E8-F701BD02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F59-82FF-497A-9A73-34DC863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112-4DB2-4626-A970-38171AF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51F3-402D-4AF1-A18E-E8328EF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6E67-F0D2-4D3E-A1C4-9A60771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9B70-FDE1-4350-BC83-E2875719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EF3-62DD-4A12-A593-8A3FF276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E146-0784-4D90-B4D9-CA7E90D6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CBAE-783F-4BFF-9E6E-D3CFF0A5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235C-2855-4CAD-A49F-9E3ADE07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BF4B-232F-42DD-A9C4-D1622EA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17CB-9936-4611-81E8-6D709BB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5E1-664E-41D1-9328-9F694B7B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E668-CA2D-4AF1-AE6C-EB0AD98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9923-AA5D-4970-82BE-2D65B3D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12FE-7769-4303-99A6-ED3D9F2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6498-0158-40B1-BC2D-1567DDF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3CB1-E89D-4047-9B03-20C94422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6C10-AF3E-4D0D-9716-A31FF200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32FC-45AC-4CE8-9F97-3099CF57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AF1-4A20-4C21-AFA4-951ED683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135-84C8-494C-8E32-28D0E25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D1C-C249-429C-8BE5-FE1CB36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B06-5A45-4AF8-AF2A-E57C6D5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8B4-F8FE-4143-B571-C9CE9EA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D39-A62B-4049-8DCE-90A2090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DC4-E43F-4DA0-AD2A-FB47998A9B7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E184-D545-4D21-A1A8-68C781A32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E94-3F9D-45B5-8318-7808BD71EB4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FA21-7EB0-4227-9464-E57BA09C3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36A-CAC1-4880-930C-878BC8B593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07D-656B-444E-B601-5885A53A4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8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68360" y="2322360"/>
            <a:ext cx="770904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. Prof. Dr. Barakatun Nisak Mohd Yus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r &amp; Dietit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 of Medicine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 Putra Malay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nitor total and rate of GW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NT should be individualized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ccording to nutritional needs and cultural prefer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MNT includes carbohydrate-controlled meal plan for those with GDM diagno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B8CD-35B9-4950-930E-456C8FF2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76B-2ED1-41B7-AF3F-DFCC7385C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F76-A1F8-4DC8-AFE0-C4CC81D8D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30 years old, G2P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16 weeks ges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iagnosed with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weight 70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ight 1.55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-pregnancy weight 60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 1. Did she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ave appropriate gestational weight g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9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260-23CA-46F8-984C-B317AD3DB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8" descr=""/>
          <p:cNvPicPr/>
          <p:nvPr/>
        </p:nvPicPr>
        <p:blipFill>
          <a:blip r:embed="rId1"/>
          <a:srcRect l="0" t="0" r="0" b="10009"/>
          <a:stretch/>
        </p:blipFill>
        <p:spPr>
          <a:xfrm>
            <a:off x="1525680" y="3087720"/>
            <a:ext cx="9264600" cy="35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63360" y="31680"/>
          <a:ext cx="12061800" cy="61452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43" name="Rectangle 6" descr=""/>
          <p:cNvPicPr/>
          <p:nvPr/>
        </p:nvPicPr>
        <p:blipFill>
          <a:blip r:embed="rId2"/>
          <a:stretch/>
        </p:blipFill>
        <p:spPr>
          <a:xfrm>
            <a:off x="268200" y="646200"/>
            <a:ext cx="11668320" cy="2219400"/>
          </a:xfrm>
          <a:prstGeom prst="rect">
            <a:avLst/>
          </a:prstGeom>
          <a:ln w="0">
            <a:noFill/>
          </a:ln>
        </p:spPr>
      </p:pic>
      <p:sp>
        <p:nvSpPr>
          <p:cNvPr id="144" name="Rounded Rectangle 4"/>
          <p:cNvSpPr/>
          <p:nvPr/>
        </p:nvSpPr>
        <p:spPr>
          <a:xfrm>
            <a:off x="1384200" y="5526000"/>
            <a:ext cx="9406080" cy="52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AD2-ED85-4A99-BD0A-0A216A119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3360" y="1701720"/>
          <a:ext cx="12012840" cy="2508480"/>
        </p:xfrm>
        <a:graphic>
          <a:graphicData uri="http://schemas.openxmlformats.org/drawingml/2006/table">
            <a:tbl>
              <a:tblPr/>
              <a:tblGrid>
                <a:gridCol w="12012840"/>
              </a:tblGrid>
              <a:tr h="2508480">
                <a:tc>
                  <a:txBody>
                    <a:bodyPr anchor="ctr">
                      <a:noAutofit/>
                    </a:bodyPr>
                    <a:p>
                      <a:pPr marL="231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a </a:t>
                      </a:r>
                      <a:r>
                        <a:rPr b="1" lang="en-MY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weight gain is still within the range</a:t>
                      </a: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owever, patient experiencing </a:t>
                      </a:r>
                      <a:r>
                        <a:rPr b="1" lang="en-MY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pid rates of weight gain</a:t>
                      </a: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is is especially pertinent as patient is just at her second trimester (16 weeks)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7030a0"/>
                      </a:solidFill>
                    </a:lnT>
                    <a:lnB w="280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3D9-A5EE-4A08-BEB2-8E2B7EC9C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http://www.guthriecenter.lib.ia.us/images/boardmeeting1"/>
          <p:cNvPicPr/>
          <p:nvPr/>
        </p:nvPicPr>
        <p:blipFill>
          <a:blip r:embed="rId1"/>
          <a:stretch/>
        </p:blipFill>
        <p:spPr>
          <a:xfrm>
            <a:off x="8894880" y="1219320"/>
            <a:ext cx="1434960" cy="12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http://2.bp.blogspot.com/-kjGBdvxNFNI/UA4NX9diLLI/AAAAAAAADY4/07B8m5eZyLo/s1600/nasi+tomato+dan+kari+ayam.jpg"/>
          <p:cNvPicPr/>
          <p:nvPr/>
        </p:nvPicPr>
        <p:blipFill>
          <a:blip r:embed="rId2"/>
          <a:stretch/>
        </p:blipFill>
        <p:spPr>
          <a:xfrm>
            <a:off x="5391000" y="2921040"/>
            <a:ext cx="1843200" cy="13809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508040" y="914400"/>
            <a:ext cx="38862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eakfast 8.30am (@ cafeteria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ti canai 1pc + dh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Idli 3 pc + dh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h Tarik (kurang man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584360" y="2743200"/>
            <a:ext cx="3886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nch 1 pm (@ cafeteri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si campur (full rice) – usually chicken curry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n) with 1-2 tbsp 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584360" y="4495680"/>
            <a:ext cx="525780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ner 1 pm (@ home cooked food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rice 1½ cup (3/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bread 6 pc (4/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curry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ta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2 tbsp VG,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050840" y="914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05084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050840" y="4419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4"/>
          <p:cNvSpPr/>
          <p:nvPr/>
        </p:nvSpPr>
        <p:spPr>
          <a:xfrm flipH="1">
            <a:off x="5533920" y="762120"/>
            <a:ext cx="3657600" cy="5715000"/>
          </a:xfrm>
          <a:prstGeom prst="line">
            <a:avLst/>
          </a:prstGeom>
          <a:ln w="3816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8209080" y="266688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etings 3-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odles – 1 la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savory kuih 1-2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its (3-4p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" descr="http://www.sunnewsforu.com/images_/IdliSambar_120225.jpg"/>
          <p:cNvPicPr/>
          <p:nvPr/>
        </p:nvPicPr>
        <p:blipFill>
          <a:blip r:embed="rId3"/>
          <a:stretch/>
        </p:blipFill>
        <p:spPr>
          <a:xfrm>
            <a:off x="646416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3.bp.blogspot.com/-TRDMSr_nRGY/TorSPALZ8oI/AAAAAAAAARc/O5cgsfdCNqM/s1600/teh-tarik.jpg"/>
          <p:cNvPicPr/>
          <p:nvPr/>
        </p:nvPicPr>
        <p:blipFill>
          <a:blip r:embed="rId4"/>
          <a:stretch/>
        </p:blipFill>
        <p:spPr>
          <a:xfrm>
            <a:off x="5778360" y="1600200"/>
            <a:ext cx="1086120" cy="81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t3.gstatic.com/images?q=tbn:S7__6VvwLUrD7M::&amp;t=1&amp;usg=__LfrAvh0AOFoord6I_Umao340nxo="/>
          <p:cNvPicPr/>
          <p:nvPr/>
        </p:nvPicPr>
        <p:blipFill>
          <a:blip r:embed="rId5"/>
          <a:stretch/>
        </p:blipFill>
        <p:spPr>
          <a:xfrm>
            <a:off x="4378320" y="51055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2.gstatic.com/images?q=tbn:DQTy6_aZoBOoZM::www.herdaily.com/blogimg/recipes/goreng-pisang.JPG&amp;t=1&amp;h=195&amp;w=260&amp;usg=__Rglp1b-tuB4PrbHtZbKsj40IzdY="/>
          <p:cNvPicPr/>
          <p:nvPr/>
        </p:nvPicPr>
        <p:blipFill>
          <a:blip r:embed="rId6"/>
          <a:stretch/>
        </p:blipFill>
        <p:spPr>
          <a:xfrm>
            <a:off x="8361360" y="5299200"/>
            <a:ext cx="1828800" cy="1176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8"/>
          <p:cNvSpPr/>
          <p:nvPr/>
        </p:nvSpPr>
        <p:spPr>
          <a:xfrm>
            <a:off x="7599240" y="4724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f no meetings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Universiti Putra Malaysia\MRP\slides pix\PA150640.JPG"/>
          <p:cNvPicPr/>
          <p:nvPr/>
        </p:nvPicPr>
        <p:blipFill>
          <a:blip r:embed="rId7"/>
          <a:stretch/>
        </p:blipFill>
        <p:spPr>
          <a:xfrm>
            <a:off x="6534000" y="5224320"/>
            <a:ext cx="1792440" cy="1347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http://1.bp.blogspot.com/_Voen13-J0lU/TKm50An5w1I/AAAAAAAAC2Q/bWRSkQ4VkuU/s1600/Roti+Canai.jpg"/>
          <p:cNvPicPr/>
          <p:nvPr/>
        </p:nvPicPr>
        <p:blipFill>
          <a:blip r:embed="rId8"/>
          <a:stretch/>
        </p:blipFill>
        <p:spPr>
          <a:xfrm>
            <a:off x="5092560" y="457200"/>
            <a:ext cx="132084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3360" y="31680"/>
          <a:ext cx="4314960" cy="614520"/>
        </p:xfrm>
        <a:graphic>
          <a:graphicData uri="http://schemas.openxmlformats.org/drawingml/2006/table">
            <a:tbl>
              <a:tblPr/>
              <a:tblGrid>
                <a:gridCol w="431496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d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8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380-2C0B-47E1-8DC9-EBC628094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01680" y="927000"/>
            <a:ext cx="512136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tal energy = 2300 kcal/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O = 427.5 g (62%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ein = 66 g (10%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t = 69 g (28%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ibre = 5 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olesterol = 300m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4" descr="http://1.bp.blogspot.com/_Voen13-J0lU/TKm50An5w1I/AAAAAAAAC2Q/bWRSkQ4VkuU/s1600/Roti+Canai.jpg"/>
          <p:cNvPicPr/>
          <p:nvPr/>
        </p:nvPicPr>
        <p:blipFill>
          <a:blip r:embed="rId1"/>
          <a:stretch/>
        </p:blipFill>
        <p:spPr>
          <a:xfrm>
            <a:off x="6111720" y="415800"/>
            <a:ext cx="1886040" cy="152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http://3.bp.blogspot.com/-TRDMSr_nRGY/TorSPALZ8oI/AAAAAAAAARc/O5cgsfdCNqM/s1600/teh-tarik.jpg"/>
          <p:cNvPicPr/>
          <p:nvPr/>
        </p:nvPicPr>
        <p:blipFill>
          <a:blip r:embed="rId2"/>
          <a:stretch/>
        </p:blipFill>
        <p:spPr>
          <a:xfrm>
            <a:off x="8121600" y="415800"/>
            <a:ext cx="144792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2.bp.blogspot.com/-kjGBdvxNFNI/UA4NX9diLLI/AAAAAAAADY4/07B8m5eZyLo/s1600/nasi+tomato+dan+kari+ayam.jpg"/>
          <p:cNvPicPr/>
          <p:nvPr/>
        </p:nvPicPr>
        <p:blipFill>
          <a:blip r:embed="rId3"/>
          <a:stretch/>
        </p:blipFill>
        <p:spPr>
          <a:xfrm>
            <a:off x="6456240" y="209232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://t3.gstatic.com/images?q=tbn:S7__6VvwLUrD7M::&amp;t=1&amp;usg=__LfrAvh0AOFoord6I_Umao340nxo="/>
          <p:cNvPicPr/>
          <p:nvPr/>
        </p:nvPicPr>
        <p:blipFill>
          <a:blip r:embed="rId4"/>
          <a:stretch/>
        </p:blipFill>
        <p:spPr>
          <a:xfrm>
            <a:off x="909720" y="3941640"/>
            <a:ext cx="2286000" cy="180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1.bp.blogspot.com/_Xkb20G6ASNk/St6kXiLmFsI/AAAAAAAABMs/iexAaLzQeZU/s400/kariayamyogurt3.jpg"/>
          <p:cNvPicPr/>
          <p:nvPr/>
        </p:nvPicPr>
        <p:blipFill>
          <a:blip r:embed="rId5"/>
          <a:stretch/>
        </p:blipFill>
        <p:spPr>
          <a:xfrm>
            <a:off x="2738520" y="4551480"/>
            <a:ext cx="1299960" cy="1447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t2.gstatic.com/images?q=tbn:DQTy6_aZoBOoZM::www.herdaily.com/blogimg/recipes/goreng-pisang.JPG&amp;t=1&amp;h=195&amp;w=260&amp;usg=__Rglp1b-tuB4PrbHtZbKsj40IzdY="/>
          <p:cNvPicPr/>
          <p:nvPr/>
        </p:nvPicPr>
        <p:blipFill>
          <a:blip r:embed="rId6"/>
          <a:stretch/>
        </p:blipFill>
        <p:spPr>
          <a:xfrm>
            <a:off x="7753320" y="4724280"/>
            <a:ext cx="18288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2"/>
          <p:cNvSpPr/>
          <p:nvPr/>
        </p:nvSpPr>
        <p:spPr>
          <a:xfrm>
            <a:off x="6661080" y="4267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f no meetings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F:\Universiti Putra Malaysia\MRP\slides pix\PA150640.JPG"/>
          <p:cNvPicPr/>
          <p:nvPr/>
        </p:nvPicPr>
        <p:blipFill>
          <a:blip r:embed="rId7"/>
          <a:stretch/>
        </p:blipFill>
        <p:spPr>
          <a:xfrm>
            <a:off x="5924520" y="4651200"/>
            <a:ext cx="1792440" cy="1341720"/>
          </a:xfrm>
          <a:prstGeom prst="rect">
            <a:avLst/>
          </a:prstGeom>
          <a:ln w="0">
            <a:noFill/>
          </a:ln>
        </p:spPr>
      </p:pic>
      <p:sp>
        <p:nvSpPr>
          <p:cNvPr id="180" name="Rounded Rectangle 19"/>
          <p:cNvSpPr/>
          <p:nvPr/>
        </p:nvSpPr>
        <p:spPr>
          <a:xfrm>
            <a:off x="4162320" y="4861080"/>
            <a:ext cx="126072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6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ounded Rectangle 20"/>
          <p:cNvSpPr/>
          <p:nvPr/>
        </p:nvSpPr>
        <p:spPr>
          <a:xfrm>
            <a:off x="9677520" y="85104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5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ounded Rectangle 21"/>
          <p:cNvSpPr/>
          <p:nvPr/>
        </p:nvSpPr>
        <p:spPr>
          <a:xfrm>
            <a:off x="9677520" y="270036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6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ounded Rectangle 22"/>
          <p:cNvSpPr/>
          <p:nvPr/>
        </p:nvSpPr>
        <p:spPr>
          <a:xfrm>
            <a:off x="9677520" y="492768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3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360" y="31680"/>
          <a:ext cx="4314960" cy="614520"/>
        </p:xfrm>
        <a:graphic>
          <a:graphicData uri="http://schemas.openxmlformats.org/drawingml/2006/table">
            <a:tbl>
              <a:tblPr/>
              <a:tblGrid>
                <a:gridCol w="431496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tary Analy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5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601-C0CA-4C16-808B-5D5F184F4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82600" y="515880"/>
            <a:ext cx="112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 2. What we usually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440" y="1649520"/>
          <a:ext cx="12061800" cy="861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9" name="Rectangle 2"/>
          <p:cNvSpPr/>
          <p:nvPr/>
        </p:nvSpPr>
        <p:spPr>
          <a:xfrm>
            <a:off x="82440" y="2712960"/>
            <a:ext cx="1206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MY" sz="4000" spc="-1" strike="noStrike">
                <a:solidFill>
                  <a:srgbClr val="ff0000"/>
                </a:solidFill>
                <a:latin typeface="Arial"/>
              </a:rPr>
              <a:t>energy intake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and correct accordingly (to maintain current body weigh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Recommend energy intake </a:t>
            </a:r>
            <a:r>
              <a:rPr b="0" lang="en-MY" sz="4000" spc="-1" strike="noStrike">
                <a:solidFill>
                  <a:srgbClr val="ff0000"/>
                </a:solidFill>
                <a:latin typeface="Arial"/>
              </a:rPr>
              <a:t>(70 x 25 kcal/kg body weight) = 1750 kcal/day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with a carbohydrate-controlled meal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DA5-D387-4262-97AD-C6841BA0F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219212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rbohydrate (CHO)-controlled meal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35200"/>
            <a:ext cx="73944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scribed 1750 kcal/day with 14 exchanges of CH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050240" y="2530440"/>
          <a:ext cx="4914720" cy="2982960"/>
        </p:xfrm>
        <a:graphic>
          <a:graphicData uri="http://schemas.openxmlformats.org/drawingml/2006/table">
            <a:tbl>
              <a:tblPr/>
              <a:tblGrid>
                <a:gridCol w="4914720"/>
              </a:tblGrid>
              <a:tr h="2982960">
                <a:tc>
                  <a:txBody>
                    <a:bodyPr anchor="ctr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= 1750 kcal/d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 CHO = 875 kc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am (1 g = 4 kcal) = 218.75 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xchange (1 exch = 15 g CHO) =  14 ex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6" descr=""/>
          <p:cNvPicPr/>
          <p:nvPr/>
        </p:nvPicPr>
        <p:blipFill>
          <a:blip r:embed="rId1"/>
          <a:srcRect l="14373" t="0" r="16262" b="0"/>
          <a:stretch/>
        </p:blipFill>
        <p:spPr>
          <a:xfrm>
            <a:off x="131760" y="1868400"/>
            <a:ext cx="6786720" cy="3983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31760" y="61754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Appendix 3 on CHO food, exchange list and GI di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7D99-2EB7-4193-8B3C-F7EB26AB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Reviewer </cp:lastModifiedBy>
  <dcterms:modified xsi:type="dcterms:W3CDTF">2018-07-29T23:58:36Z</dcterms:modified>
  <cp:revision>144</cp:revision>
  <dc:subject/>
  <dc:title>Case study</dc:title>
</cp:coreProperties>
</file>